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4DF0-5A24-4787-83BD-EB05BD6C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39CB-0C99-4204-B3F9-363CABC2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EDB8-C420-4DF7-81F6-33233F20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CBE-039E-47D7-8166-3E351212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08A0-11B5-4FA1-BD55-3312EA85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394-D2AA-4B93-805F-A400957B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2279-A2CB-4A53-81DE-32337D81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DE0A-A3E7-4C61-8716-6D924CFC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8FB7-04C5-403E-9B56-415CC4A8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CA8B-E8A2-4380-BB39-077BC110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E4AD-F46E-4D26-B4A9-E39C10C0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9300-17F3-4027-8CBC-40002023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8338-8367-4C42-8357-CC02B02AE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68360" y="1268280"/>
            <a:ext cx="8281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„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Interreg IVA” = ETE 2007-2013 elvárá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galább 1 határon túli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sélyegyenlőség (legalább 2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nntartható fejlődés (legalább 3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ilingualism (HU-SK nyelvek használ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özös fejlesztés, végrehajtás, menedzsment és finanszírozás (legalább 2 alkalmazá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Vezető partner e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50920" y="1052640"/>
            <a:ext cx="84247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További elvár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elképzelés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inanszírozá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rtnerség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delegálása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ális költségvetés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dikátorok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rchiválás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" name=""/>
          <p:cNvGraphicFramePr/>
          <p:nvPr/>
        </p:nvGraphicFramePr>
        <p:xfrm>
          <a:off x="395280" y="2943360"/>
          <a:ext cx="8280360" cy="32731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elős szervezet/ szemé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ke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e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nőrzés formá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...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840680" y="1270080"/>
            <a:ext cx="52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nőségi tervezés = Good „</a:t>
            </a:r>
            <a:r>
              <a:rPr b="1" lang="sk-SK" sz="1800" spc="-1" strike="noStrike" u="sng">
                <a:solidFill>
                  <a:srgbClr val="ff3300"/>
                </a:solidFill>
                <a:uFillTx/>
                <a:latin typeface="Arial"/>
              </a:rPr>
              <a:t>time</a:t>
            </a: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“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68360" y="981000"/>
            <a:ext cx="8281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re vigyázzunk a költségvetés tervezésénél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an jogo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3-7.5 sorok összege nem haladhatja meg az adott partner személyi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ámogatási arány megfelelő meghatározása (állami támogatás?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420920"/>
            <a:ext cx="82818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Állami támogatás (state aid)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A Közös Szakmai Titkárság direkt módon nem nyújt információkat a pályázott tevékenységek állami támogatás megvizsgálásának szempontjából!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érjük keressé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Zsanett Katalin  (HU, ENG, 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talin.zsanett.magyar@nfu.gov.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De előtte...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anulmányozzák át a PÁLYÁZATI ÚTMUTATÓ-ban feltüntetett jogo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evékenységek listáját és hozzájuk rendelt jogcíme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Vezető Partner nyilatkoza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a nyomtatvány elérhető magyar VP-nek magyarul, szlovák VP-nek szlovákul) - nyomtatva, törvényes képviselő által aláírva és lepecsétel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cc0000"/>
                </a:solidFill>
                <a:latin typeface="Arial"/>
              </a:rPr>
              <a:t>Partnerségi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az összes támogatásban részesülő partner törvényes képviselője által aláírva)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omtatva, törvényes képviselő által aláírva és lepecsét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. melléklet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ennyiben a partnerek az együttműködési kritériumok közül a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„Közös fejlesztés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melléklet - A projek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fenntarthatóság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 melléklet - Az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esélyegyenlőség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270600" y="105264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Értékelés me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12760" y="30924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8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2423160" y="2852640"/>
            <a:ext cx="386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7:09:49Z</dcterms:created>
  <dc:creator>TorokZsolt</dc:creator>
  <dc:description/>
  <dc:language>en-US</dc:language>
  <cp:lastModifiedBy>TorokZsolt</cp:lastModifiedBy>
  <dcterms:modified xsi:type="dcterms:W3CDTF">2011-01-26T13:34:19Z</dcterms:modified>
  <cp:revision>117</cp:revision>
  <dc:subject/>
  <dc:title>1. dia</dc:title>
</cp:coreProperties>
</file>